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9BD-C559-456A-BB89-5EFD129C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020-1432-444D-B90F-AF847FC8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977-DBBC-4DF8-B1EC-7C4BD77C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ACF-AE84-4A39-9B01-50A147CB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574-3623-45EA-96DA-E4B303BE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559-DB3C-463A-863F-C9031AA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1BA-D360-458F-89FE-BB035E53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861-025B-4B78-AA7E-ED6D9836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A16-BBC2-4D88-A213-8DE3DC8C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E7D-AED7-44E6-82F9-BC18FFFB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844-9758-4546-82A7-7AC268DC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48B-5B96-4CA6-9A6A-60925F03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4F7C-AFB9-4BFC-8254-810D9E4F6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28/04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Évaluation des délais de traitement d’un échantillon de 100 lettres sur les 15 premiers jours du mois de février 2009 (Norme : 3 jours ouvrab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M. Antoine, Organis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15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1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2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03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04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05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06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7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8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09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10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14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15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16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7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18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19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20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21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22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23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24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25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26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27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28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31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32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33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4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35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36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7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38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41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42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3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44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5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46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47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8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51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2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53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54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55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56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57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58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61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2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63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64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65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66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67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68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71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72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73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74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75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76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77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8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1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82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3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84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85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86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7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88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91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92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93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94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95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96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97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98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11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12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13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14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15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16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17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18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19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20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21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22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23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24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25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26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27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28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29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30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31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32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33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34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35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6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37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38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39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40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41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42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43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44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45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46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47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48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49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50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51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52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53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54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55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56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57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58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59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60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61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62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63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64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65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66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67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8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69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70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71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72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73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74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5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76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77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78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79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80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81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82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83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84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85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86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87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88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89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90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91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92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93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94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95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96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97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98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99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00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11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12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13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14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15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16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17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18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19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20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2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2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52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2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2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2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2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2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2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3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31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32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33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34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35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36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7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8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39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40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41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42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43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44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45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46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47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48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49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50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51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52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53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54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5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6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57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58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59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60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61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62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563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64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65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66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67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68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69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7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71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72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73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74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75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76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77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78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79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8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81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82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83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84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85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86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87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88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89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90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91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92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93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94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95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96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97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8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99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00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0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0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0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0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0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0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0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0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0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1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21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33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2 et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34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3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39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40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41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42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43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44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45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46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47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48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49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50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51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52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53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54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56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57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58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ortes variations des performances autour de la norme de délai de 3 jours ouvr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aible variation de l’étendue par rapport à ses seuils minimum de 2 et maximum d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59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0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61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62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63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664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665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66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68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69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70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71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72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673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74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75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76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87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88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89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90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91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92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93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94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95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96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97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98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99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00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01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02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0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0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0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0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0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0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1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1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1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13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714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15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716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17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18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19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20"/>
          <p:cNvSpPr/>
          <p:nvPr/>
        </p:nvSpPr>
        <p:spPr>
          <a:xfrm>
            <a:off x="-685800" y="5029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21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22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23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724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25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726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727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28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29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30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731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32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33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34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35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36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37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738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39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740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41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742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4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74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4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4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4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4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5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5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5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53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54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55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756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757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58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59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760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61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62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63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6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76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6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6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6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6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77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7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77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77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74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75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76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77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778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79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80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781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82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83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84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85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786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87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88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789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790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91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792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93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94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795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796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797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798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99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00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01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02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803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80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80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80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80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80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0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1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1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1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81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14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15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816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17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818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819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820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21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822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23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824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825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82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2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82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82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83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83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3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83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83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3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36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37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838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839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840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41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842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43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44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845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846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847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48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849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850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851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852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853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54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855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56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857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58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859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860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861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862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863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64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65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6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86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86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86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87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87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87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7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87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87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76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877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878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879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80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881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882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83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884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885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886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88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88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88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89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89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89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89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89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89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89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897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898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99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00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01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902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903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904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905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06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07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08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909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910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911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912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913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914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15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16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17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18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919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20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21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22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923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924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925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26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92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92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92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3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93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93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93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93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93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93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37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938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939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940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941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942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943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944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945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946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947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48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949"/>
          <p:cNvSpPr/>
          <p:nvPr/>
        </p:nvSpPr>
        <p:spPr>
          <a:xfrm>
            <a:off x="1676520" y="19810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950"/>
          <p:cNvSpPr/>
          <p:nvPr/>
        </p:nvSpPr>
        <p:spPr>
          <a:xfrm>
            <a:off x="2057400" y="24382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951"/>
          <p:cNvSpPr/>
          <p:nvPr/>
        </p:nvSpPr>
        <p:spPr>
          <a:xfrm flipV="1">
            <a:off x="2514600" y="2438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954"/>
          <p:cNvSpPr/>
          <p:nvPr/>
        </p:nvSpPr>
        <p:spPr>
          <a:xfrm>
            <a:off x="3657600" y="21337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55"/>
          <p:cNvSpPr/>
          <p:nvPr/>
        </p:nvSpPr>
        <p:spPr>
          <a:xfrm flipV="1">
            <a:off x="4038480" y="22856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956"/>
          <p:cNvSpPr/>
          <p:nvPr/>
        </p:nvSpPr>
        <p:spPr>
          <a:xfrm>
            <a:off x="4419720" y="22860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957"/>
          <p:cNvSpPr/>
          <p:nvPr/>
        </p:nvSpPr>
        <p:spPr>
          <a:xfrm flipV="1">
            <a:off x="4724280" y="213336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958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959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60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961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962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63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964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965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966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967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968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96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97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7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7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97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7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97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97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97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7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97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98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98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98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98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8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98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98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8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98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990"/>
          <p:cNvSpPr/>
          <p:nvPr/>
        </p:nvSpPr>
        <p:spPr>
          <a:xfrm flipV="1">
            <a:off x="2819520" y="19810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991"/>
          <p:cNvSpPr/>
          <p:nvPr/>
        </p:nvSpPr>
        <p:spPr>
          <a:xfrm>
            <a:off x="3276720" y="19810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992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993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994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95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96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997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998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999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00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001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00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00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00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0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00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00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00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00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01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01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01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01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01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101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01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1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01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01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102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2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022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023"/>
          <p:cNvSpPr/>
          <p:nvPr/>
        </p:nvSpPr>
        <p:spPr>
          <a:xfrm>
            <a:off x="16765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024"/>
          <p:cNvSpPr/>
          <p:nvPr/>
        </p:nvSpPr>
        <p:spPr>
          <a:xfrm>
            <a:off x="205740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025"/>
          <p:cNvSpPr/>
          <p:nvPr/>
        </p:nvSpPr>
        <p:spPr>
          <a:xfrm>
            <a:off x="25146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026"/>
          <p:cNvSpPr/>
          <p:nvPr/>
        </p:nvSpPr>
        <p:spPr>
          <a:xfrm>
            <a:off x="2895480" y="3962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027"/>
          <p:cNvSpPr/>
          <p:nvPr/>
        </p:nvSpPr>
        <p:spPr>
          <a:xfrm>
            <a:off x="3276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028"/>
          <p:cNvSpPr/>
          <p:nvPr/>
        </p:nvSpPr>
        <p:spPr>
          <a:xfrm>
            <a:off x="3657600" y="396252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029"/>
          <p:cNvSpPr/>
          <p:nvPr/>
        </p:nvSpPr>
        <p:spPr>
          <a:xfrm flipV="1">
            <a:off x="4038480" y="39621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030"/>
          <p:cNvSpPr/>
          <p:nvPr/>
        </p:nvSpPr>
        <p:spPr>
          <a:xfrm>
            <a:off x="44197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031"/>
          <p:cNvSpPr/>
          <p:nvPr/>
        </p:nvSpPr>
        <p:spPr>
          <a:xfrm flipV="1">
            <a:off x="4876920" y="38098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tthieu Montaudouin</cp:lastModifiedBy>
  <dcterms:modified xsi:type="dcterms:W3CDTF">2009-06-08T10:03:41Z</dcterms:modified>
  <cp:revision>10</cp:revision>
  <dc:subject/>
  <dc:title>Présentation PowerPoint</dc:title>
</cp:coreProperties>
</file>